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C89-2E73-4276-BF46-88D1054F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5648-DE8C-4A1A-8962-D33AB83F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958-BA89-4DD3-A095-251C4DD9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ACC-CCD9-4020-A036-D164EFBB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CB5-2BA4-4B32-915E-415A4DC4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C2E-3A7D-42CF-A0F1-9B35BDEB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57A-AF31-4016-BF68-E13A9B0B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27C-FBA5-4C46-A00B-347A190F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218-A6E5-408B-9E2C-226A1E98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B52-FC14-41C9-BB32-14A1CCFB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F40B-E183-4A59-AB8F-58662546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9E0-4267-4B89-9F76-CB12EE17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9E8E-36AA-45B9-901A-435824C2A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(se originan a partir de la solidificación de un mag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MAGMA ES UN PRODUCTO DE LA DINÁMICA DE LOS MÁRGENES DE PLACAS,  ORIGINADO POR FUSIÓN PARCIAL DE LA CORTEZA INFERIOR   y/o  MANTO SUPERIOR,  USUALMENTE  A PROFUNDIDADES QUE VARÍAN ENTRE  50  a  200  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 CAPAZ  DE MOVERSE   EN LA CORTEZA,  PENETRANDO  A TRAVÉS DE ELL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COMO LA MAYORÍA DE LOS FLUIDOS, EL MAGMA TIENE  MENOR DENSIDAD QUE EL SÓLIDO DEL CUAL SE FORMA, Y POR LA FUERZA DE FLOTABILIDAD  TIENDE A MIGRAR HACIA  ARRIBA  A  TRAVÉS DEL MANTO Y LA CORTEZA  (proceso de intrusión:  penetra en las rocas superiores,  por inyección en las fracturas;  presiona y empuja las rocas superiores formando un domo;  funde y asimila las rocas que inv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 ROCAS IGNEAS  SON  REGISTROS  DE  LA  HISTORIA  TERMAL  DE  LA TIERRA.  SU  ORIGEN  ESTÁ  ASOCIADO   ESTRECHAMENTE  AL MOVIMIENTO  DE  PLACAS  TECTÓNICAS  Y   JUEGAN  UN   ROL IMPORTANTE  EN   LA  EXPANSIÓN  DE   LOS  FONDOS  OCEÁNICOS,   EN  EL ORIGEN  DE  LAS  MONTAÑAS,   Y  EN   LA   EVOLUCIÓN  DE  LOS CONTIN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 MEJORES  EJEMPLOS  CONOCIDOS  DE   LA ACTIVIDAD   IGNEA  SON  LAS  ERUPCIONES  VOLCÁNICAS,   DÓNDE  MATERIAL   ROCOSO  LÍQUIDO  SE  ABRE  CAMINO  HACIA   LA  SUPERFICIE   HASTA  ERUPTAR  A  TRAVÉS  DE  LOS  CENTROS  (  O  DUCTOS)   Y   FISU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NOS   ESPECTACULAR ,   PERO  TAN  IMPORTANTE  O   MAS,   SON   LOS TREMENDOS   VOLÚMENES  DE  ROCA   LÍQUIDA   QUE  NUNCA   LLEGA  A  LA SUPERFICIE,   PORQUE   PERMANECE   ATRAPADA  EN  LA CORTEZA,   A  CIERTA   DISTANCIA   DE  LA  SUPERFICIE,   DÓNDE  SE   ENFRÍA   LENTAMENTE   HASTA  SOLIDIFCARSE   DE   MANERA  CRISTALI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  GRANITO  ES  LA  VARIEDAD  MAS   COMÚN   DE  ESTE   TIPO  DE  ROCA  Y   ESTÁ   COMÚNMENTE   EXPUESTA   EN    LAS  CADENAS  DE  MONTAÑAS  QUE   HAN  SIDO   ERODADAS,    Y  EN  LAS RAICES DE   LOS  SISTEMAS  DE   MONTAÑAS  QUE  SE   PRESENTAN   EN   LOS   ESUD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L DESPLAZAMIENTO DEL MAGMA SE  DETIENE   CUANDO  SU DENSIDAD  LLEGA  A  EQUILIBRARSE  CON LA DE LAS ROCAS CIRCUNDANTES,  O DONDE LAS ROCAS DEL TECHO SON DEMASIADO RESISTENTES PARA PERMITIR QUE EL MAGMA CONTINÚE  SU DESPLAZAMIENTO  PENETRANDO  MAS ALLÁ DE 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VENTUALMENTE,  EL MAGMA SE ENFRÍA PAULATINAMENTE Y CRISTALIZA ANTES DE ALCANZAR LA SUPERFICIE TERRESTRE,  PARA  FORMAR CUERPOS DE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NTRUSIV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SI ÉSTAS SE FORMAN CERCANAS A LA SUPERFICIE SE LES DENOMIN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HIPABISALE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Y SI LO HACEN A MAYOR PROFUNDIDAD         (&gt; 3 km)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PLUTÓN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EL MAGMA  LOGRA ASCENDER HASTA SALIR A LA SUPERFICIE TERRESTRE, SE ENFRÍA RÁPIDAMENTE PARA FORMAR CUERPOS DE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IGNEAS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,  llamadas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S EXTRUSIVAS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VOLCÁNICAS.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SI LA EXTRUSIÓN SE HACE DE MANERA  “TRANQUILA”,  A TRAVÉS DE UN CONDUCTO CENTRAL O FISURAL, EL MATERIAL  EXTRUÍDO PUEDE  FLUIR SOBRE EL PAISAJE  EN UNA COLAD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LAVA,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FORMANDO UNA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IGNEA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DENOMINADA TAMBIÉ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ROCA EFUS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N CASO CONTRARIO,  SI EL MAGMA EXTRUYE DE MANERA MENOS “TRANQUILA”,  PUEDE HACERLO EN FORMA EXPLOSIVA,  EXPLUSANDO  FRAGMENTOS   SÓLIDOS  LLAMADOS  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PIROCLASTOS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.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Estos  fragmentos  forman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denominadas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ROCAS PIROCLÁS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OS A  ROCAS IGNEAS INTRUSIVAS SON: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BATOLITO, STOCK, DIQUE, FILÓN -M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OS CUERPOS O ESTRUCTURAS ASOCIADAS A ROCAS IGNEAS EXTRUSIVAS SON: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COLADA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(de morfología y apariencia diferente, según la composición) y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 ESTRATO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 caso de ciertas rocas piroclástic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EL MA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EL MAGMA: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ES  UN  MATERIAL SILICATADO FUNDIDO  (líquido + gases + crist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OS  ELEMENTOS CONSTITUYENTES  PRINCIPALES  SON:  Si, O, Al, Ca, Fe, Mg, N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S   PROPIEDADES   FÍSICAS   DEL   MAGMA,   como   la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densidad,  la  viscosidad,  y  la  manera de extruir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,   SON CONTROLADAS  AMPLIAMENTE  POR  LOS CONSTITUYENTES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.    LA   PROPORCIÓN  DEL  CONSTITUYENTE 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Si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  DE  LA  COMPOSICIÓN QUÍMICA  DEL  MAGMA ES VARIABLE,  ENTRE  EL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33%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7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LA EXPLOSIVIDAD  ES  CONTROLADA  POR  LOS  GASES DISUELTOS  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(C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 y  H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 O;  S O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i="1" lang="es-ES_tradnl" sz="2000" spc="-1" strike="noStrike">
                <a:solidFill>
                  <a:srgbClr val="ffffff"/>
                </a:solidFill>
                <a:latin typeface="Bookman Old Style"/>
              </a:rPr>
              <a:t>, H Cl....),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QUE PUEDEN LLEGAR  HASTA  14 %   EN  VOLUM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30456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Bookman Old Style"/>
              </a:rPr>
              <a:t>NO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OBSTANTE LA  GRAN VARIEDAD EN SU COMPOSICIÓN DEL MAGMA,  SE PUEDE  ILUSTRAR MUCHO SOBRE MAGMAS SILICATADOS EXAMINADO SÓLO DOS TIPOS EXTREMOS: 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AGMA  MÁFICO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Y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 MAGMA 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MÁFIC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(+ o -)  50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y   un rango de temperatura de 900° a 1200°  C .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ABRO - BASALT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(Ca-plagioclasa y piroxeno, con menor cantidad de olivino y sin, o muy poco,  cuarzo).  SE GENERA POR FUSIÓN PARCIAL DEL MANTO (en Rift - zona). ES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MUY FLUI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Bookman Old Style"/>
              </a:rPr>
              <a:t>MAGMA SILÍCEO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: contiene  65 % Y 75 %  de  Si O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 con temperatura generalmente bajo 850° C.   PRODUCE ROCAS DE LA FAMILIA  </a:t>
            </a:r>
            <a:r>
              <a:rPr b="1" lang="es-ES_tradnl" sz="2000" spc="-1" strike="noStrike">
                <a:solidFill>
                  <a:srgbClr val="ffffff"/>
                </a:solidFill>
                <a:latin typeface="Bookman Old Style"/>
              </a:rPr>
              <a:t>GRANITO - RIOLITA  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(cuarzo, K-feldespato, Na-plagioclasa, menor cantidad de biotita o anfíbola).  SE GENERA POR FUSIÓN PARCIAL DE CORTEZA OCEÁNICA Y PARTE INFERIOR DE CORTEZA CONTINENTAL  ( en zona de subducción).  ES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MUY VISC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Bookman Old Style"/>
              </a:rPr>
              <a:t>UN MAGMA DE COMPOSICIÓN  INTERMEDIO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(entre alto y bajo contenido de Si O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s-ES_tradnl" sz="2000" spc="-1" strike="noStrike">
                <a:solidFill>
                  <a:srgbClr val="ffffff"/>
                </a:solidFill>
                <a:latin typeface="Bookman Old Style"/>
              </a:rPr>
              <a:t> )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PRODUCE ROCAS DE LA FAMILIA  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DIORITA - ANDES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DIFERENTE COMPOSICIÓN  QUÍMICA DE LOS MAGMAS, DESDE  BASÁLTICOS (o  máficos) A GRANÍTICOS,  PASANDO POR LOS DIORÍTICOS,  FORMAN ROCAS CON MINERALES DIFERENTES Y DAN ORÍGEN  A ERUPCIONES VOLCÁNICAS  DIFERENTES. EN UN EXTREMO ERUPCIONES ”TRANQUILAS”, CON SÓLO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LUJOS DE LAVA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Y  EN EL OTRO EXTREMO ERUPCIONES “VIOLENTAS”  Y EXPLOSIVAS, CON SÓLO EXPULSIÓN DE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PIROCLASTOS.  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LA ERUPCIÓN  MIXTA,  EFUSIVA Y PIROCLÁSTICA, SE ASOCIA CON MAGMAS DE COMPOSICIÓN INTERMEDI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EL EDIFICIO VOLCÁNICO (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VOLCÁN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)  QUE RESULTA A PARTIR DE LOS DIFERENTES TIPOS DE ERUPCIONES QUE OCURREN,  PRESENTAN </a:t>
            </a:r>
            <a:r>
              <a:rPr b="1" lang="es-ES_tradnl" sz="1800" spc="-1" strike="noStrike">
                <a:solidFill>
                  <a:srgbClr val="ffffff"/>
                </a:solidFill>
                <a:latin typeface="Bookman Old Style"/>
              </a:rPr>
              <a:t>FORMAS O ESTRUCTURAS</a:t>
            </a:r>
            <a:r>
              <a:rPr b="0" lang="es-ES_tradnl" sz="1800" spc="-1" strike="noStrike">
                <a:solidFill>
                  <a:srgbClr val="ffffff"/>
                </a:solidFill>
                <a:latin typeface="Bookman Old Style"/>
              </a:rPr>
              <a:t>   DIFERENTES.  TANTO EL TIPO DE ERUPCIÓN COMO LA FORMA DEL VOLCAN RESULTANTE SE CLASIFICAN DE ACUERDO A PARÁMETROS  DEFIN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idad Volcá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RUPCIONES  BASÁLTICAS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ON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S COMUNES. RELLENAN VALLES Y DEPRESIONES TOPOGRÁFICAS. EXTRUYEN DE FRACTURAS Y FISURAS (en dorsales). FORMAN NUEVA CORTEZA OCEÁNICA DONDE SE SEPARAR LAS PLA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IPOS COMUNES DE COLADA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: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aa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poco gas; movimiento lento; 3-10  m espesor).  “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Pahoehoe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menor  espesor (1 m); repliegues o rollos de cuerda; tubos de lava). Lavas vesiculares (burbujas de gas). Lavas masivas y no vesiculares, con fracturas poligonales (“columnas” hexagonales “). Pillow-lava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FLUJOS DE CENIZ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NUBES  ARDIENT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:   hasta 250 km/ hora;   400  km extensión;  100 m espesor  (son catastróficas). dan  origen  a  una   </a:t>
            </a:r>
            <a:r>
              <a:rPr b="0" i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IGNIMBRITA.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. L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AÍDA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o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“LLUVIA”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DE  CENI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da  origen  a  la  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F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TAMAÑO  DE  LOS  PIROCLASTOS  ES  VARIABLE:  DESDE  </a:t>
            </a:r>
            <a:r>
              <a:rPr b="0" lang="es-ES_tradnl" sz="1600" spc="-1" strike="noStrike" u="sng">
                <a:solidFill>
                  <a:srgbClr val="ffffff"/>
                </a:solidFill>
                <a:uFillTx/>
                <a:latin typeface="Times New Roman"/>
              </a:rPr>
              <a:t>CENIZ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IN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&lt; 1/16 mm);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CENIZA GRUES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16 - 2 mm);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LAPILL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(2 - 64 mm);  Y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OMBA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O   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BLOQU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(&gt; 64 mm).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ROCAS  PRIROCLÁSTICAS  QUE  SE  ORIGINAN,       RESPECTIVAMENTE,  SON: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OBA,    BRECHA   Y   AGLOM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POS DE ERUPCIONES VOLCÁN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HAWA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ÓLO FLUJOS (escasos piroclásticos); LAGOS DE LAVA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TROMBLIANA: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(descargas rítmicas de escoria incandecente; bomb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ULCA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FLUJOS PIROCLÁSTICOS, NUBES OSCURAS,  FREÁTICA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ELE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XPLOSIVA VIOLENTA; FORMA DOMOS Y “AGUJ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LINIAN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RINCIPALMENTE GASEOSA, CONTÍNUA, NUBE DE PÓM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FREATOMAGMÁTICA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AGMA + AGUA= ERUPCIÓN VIOLENTA ÚNICA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ORMAS VOLCÁ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ESCUDOS VOLCÁN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hasta 100 Km de diámetro y  10 km de altu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ONOS CINERÍTIC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  30 - 300 m de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OMOS DE LAVA SILÍCE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AGUJAS MÚLTIPLES (ESPINAS) DE 500 - 8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OLCÁN COMPUEST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IXTO)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: base: 30 -40 km   y  3000 m (o más)  a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CALDERA Y LAGO VOLCÁNICO (SOMM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AARS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crater de explosión pequeño al atravesar nivel fre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CTIVIDAD FUMARÓLICA (H2O,HCl,CO2), SOLFATÁRICA (H2S,SO2), GEYSERS Y FUENTES TE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X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ARIENCIA GENERAL DE LA ROCA,   DETERMINADA  POR   LA RELACIÓN  DE   TAMAÑO,   FORMA  Y  ARREGLO  GEOMÉTRICO   DE  LOS  ELEMENTOS  O  GRANOS  DE  MINERALES   CONSTITUY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PRINCIPALES FACTORES QUE INCIDEN EN LA TEXTURA DE LAS ROCAS SON LA PROFUNDIDAD A LA QUE SOLIDIFICA EL MAGMA Y EL TIEMPO QUE  TIENE  PARA HACERLO  (velocidad de enfria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 SE PUEDEN CLASIFICAR  DE ACUERDO CON EL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GRADO DE CRISTALINIDAD, TAMAÑO DEL GRANO y  TAMAÑO RELATIVO DEL GRAN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TEXTURAS PRINCIPALES O  MAYORES SON: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VITREA, AFANÍTICA, FANERÍTICA, PORFÍRIC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DIFERENTES TIPOS DE ROCAS IGNEAS SE CLASIFICAN EN BASE A SUS TEXTURAS, ADEMÁS DE SU COMPO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6:53:25Z</dcterms:created>
  <dc:creator>Universidad de Chile</dc:creator>
  <dc:description/>
  <dc:language>en-US</dc:language>
  <cp:lastModifiedBy>Compaq</cp:lastModifiedBy>
  <cp:lastPrinted>2001-03-28T23:16:59Z</cp:lastPrinted>
  <dcterms:modified xsi:type="dcterms:W3CDTF">2001-08-16T05:39:10Z</dcterms:modified>
  <cp:revision>41</cp:revision>
  <dc:subject/>
  <dc:title>ROCAS IGNEAS (se originan a partir de la solidificación de un magma)</dc:title>
</cp:coreProperties>
</file>